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838-FB17-4AC5-BD5E-5253C48A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77D-F426-43B2-84D4-ADD19206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4FA-4C3F-4828-A362-F0D13D26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956-9BFE-42F9-82E4-93046622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045B-FD55-470F-B8B4-0877AE72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23BB-C704-4A7A-8E88-6EA4F134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F24E-4721-455A-A6EE-590A6E0C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EF9A-1685-46DC-A140-5D7D511C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C4A3-8E82-4E23-8E61-196C45D0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A2FF-1DB0-4975-AB1D-240809ED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C383-68B7-4CD4-AC3C-F12545AA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B62-32BE-4715-87BA-A865C2FE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8D50-2E8A-4D52-909B-85FC165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9989-60C2-4A48-914C-996C32F0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7B15-484A-4D6C-9948-956BBC5F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DCD8-DFDC-4568-A537-6D7B7923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0A99-DB9F-4757-B51B-45D80717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792-5A03-4CA6-A0FD-CE151157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4CA-60F3-49FC-8F9C-905C5378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7C5-2775-4F55-8DC2-53BAB61B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2A6-F01A-4455-A266-E427980C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729-2EC3-49BD-8718-E5F678A0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642-A12A-43A3-94B5-A3BA84B9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1BD-D045-47A7-8371-45DF3F18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C04B-8CA4-4D84-9E7D-E501F3BC351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447C-A267-408F-9DEE-533B644ABE3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Генератор зашумления сетей </a:t>
            </a:r>
            <a:br>
              <a:rPr sz="36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сотовой связ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59500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А. Островский, группа ЗТ-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5877000"/>
            <a:ext cx="4751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5805360"/>
            <a:ext cx="5040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734080"/>
            <a:ext cx="540072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404640"/>
            <a:ext cx="648000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33360"/>
            <a:ext cx="698508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91600" y="2043360"/>
            <a:ext cx="1662120" cy="2901240"/>
            <a:chOff x="3891600" y="2043360"/>
            <a:chExt cx="1662120" cy="2901240"/>
          </a:xfrm>
        </p:grpSpPr>
        <p:sp>
          <p:nvSpPr>
            <p:cNvPr id="107" name=""/>
            <p:cNvSpPr/>
            <p:nvPr/>
          </p:nvSpPr>
          <p:spPr>
            <a:xfrm rot="433200">
              <a:off x="4038120" y="2444760"/>
              <a:ext cx="1368360" cy="242352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2423520"/>
                <a:gd name="textAreaBottom" fmla="*/ 2356920 h 2423520"/>
              </a:gdLst>
              <a:ahLst/>
              <a:rect l="textAreaLeft" t="textAreaTop" r="textAreaRight" b="textAreaBottom"/>
              <a:pathLst>
                <a:path w="21600" h="38252">
                  <a:moveTo>
                    <a:pt x="3600" y="0"/>
                  </a:moveTo>
                  <a:arcTo wR="3600" hR="3600" stAng="16200000" swAng="-5400000"/>
                  <a:lnTo>
                    <a:pt x="0" y="34652"/>
                  </a:lnTo>
                  <a:arcTo wR="3600" hR="3600" stAng="10800000" swAng="-5400000"/>
                  <a:lnTo>
                    <a:pt x="18000" y="382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433200">
              <a:off x="4249800" y="2640960"/>
              <a:ext cx="1026000" cy="851760"/>
            </a:xfrm>
            <a:prstGeom prst="rect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433200">
              <a:off x="4572720" y="3623040"/>
              <a:ext cx="274320" cy="262800"/>
            </a:xfrm>
            <a:prstGeom prst="sun">
              <a:avLst>
                <a:gd name="adj" fmla="val 25000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433200">
              <a:off x="4137120" y="38973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433200">
              <a:off x="4951800" y="40006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433200">
              <a:off x="4543560" y="39488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433200">
              <a:off x="4112640" y="40924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433200">
              <a:off x="4926960" y="419580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433200">
              <a:off x="4519080" y="41439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433200">
              <a:off x="4096080" y="42213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433200">
              <a:off x="4910760" y="43246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433200">
              <a:off x="4502520" y="42728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433200">
              <a:off x="4078080" y="4351680"/>
              <a:ext cx="27396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33200">
              <a:off x="4893120" y="4455000"/>
              <a:ext cx="27396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433200">
              <a:off x="4484880" y="44031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433200">
              <a:off x="4063320" y="44816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433200">
              <a:off x="4877640" y="45849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433200">
              <a:off x="4469760" y="453312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433200">
              <a:off x="4231080" y="3640320"/>
              <a:ext cx="204840" cy="196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433200">
              <a:off x="4977000" y="3735000"/>
              <a:ext cx="204840" cy="196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433200">
              <a:off x="5241960" y="2049840"/>
              <a:ext cx="136800" cy="457560"/>
            </a:xfrm>
            <a:custGeom>
              <a:avLst/>
              <a:gdLst>
                <a:gd name="textAreaLeft" fmla="*/ 6480 w 136800"/>
                <a:gd name="textAreaRight" fmla="*/ 130320 w 136800"/>
                <a:gd name="textAreaTop" fmla="*/ 6480 h 457560"/>
                <a:gd name="textAreaBottom" fmla="*/ 451080 h 457560"/>
              </a:gdLst>
              <a:ahLst/>
              <a:rect l="textAreaLeft" t="textAreaTop" r="textAreaRight" b="textAreaBottom"/>
              <a:pathLst>
                <a:path w="21600" h="72113">
                  <a:moveTo>
                    <a:pt x="3600" y="0"/>
                  </a:moveTo>
                  <a:arcTo wR="3600" hR="3600" stAng="16200000" swAng="-5400000"/>
                  <a:lnTo>
                    <a:pt x="0" y="68513"/>
                  </a:lnTo>
                  <a:arcTo wR="3600" hR="3600" stAng="10800000" swAng="-5400000"/>
                  <a:lnTo>
                    <a:pt x="18000" y="721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987640" y="1773360"/>
            <a:ext cx="3600360" cy="3671640"/>
            <a:chOff x="2987640" y="1773360"/>
            <a:chExt cx="3600360" cy="3671640"/>
          </a:xfrm>
        </p:grpSpPr>
        <p:sp>
          <p:nvSpPr>
            <p:cNvPr id="129" name=""/>
            <p:cNvSpPr/>
            <p:nvPr/>
          </p:nvSpPr>
          <p:spPr>
            <a:xfrm>
              <a:off x="2987640" y="1773360"/>
              <a:ext cx="3600360" cy="3671640"/>
            </a:xfrm>
            <a:prstGeom prst="ellipse">
              <a:avLst/>
            </a:prstGeom>
            <a:noFill/>
            <a:ln w="254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492360" y="2133720"/>
              <a:ext cx="2303280" cy="2735280"/>
            </a:xfrm>
            <a:prstGeom prst="line">
              <a:avLst/>
            </a:prstGeom>
            <a:ln w="254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Расчёт фильтра сосредоточенной селекции полосы зашумления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31880" y="2184480"/>
                <a:ext cx="304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31880" y="2184480"/>
            <a:ext cx="46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880" y="2184480"/>
            <a:ext cx="64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880" y="2184480"/>
            <a:ext cx="64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880" y="2184480"/>
            <a:ext cx="48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99308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920" y="277920"/>
            <a:ext cx="801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Алгоритм работы программы синтеза аналоговых сигналов микроконтроллером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1411200"/>
            <a:ext cx="3457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ретить сторожевой тайме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chDog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оинициализировать порты и системы тактир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270828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ная пауза для стабилизации кварцевого резона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457992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ициализация тайме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B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начало генерации сигналов 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3787920"/>
            <a:ext cx="3457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зов подпрограммы стабилизации частоты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61168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ход в режим пониженного энергопотреблен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 PM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484280"/>
            <a:ext cx="302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ремент и логическое «И» указателя на таблиц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ения синуса и запись нового значения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R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3021120"/>
            <a:ext cx="302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ремент и логическое «И» указателя на таблицу значения «пилы» и запись нового значения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6000" y="4492800"/>
            <a:ext cx="3024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т из преры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0" y="587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140360" y="206028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206064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780000" y="6237360"/>
            <a:ext cx="35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308720" y="4868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2565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36464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4438800"/>
            <a:ext cx="0" cy="14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55166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0872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08720" y="4221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14461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рывание от тайме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B CCIFG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830160"/>
            <a:ext cx="143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График последовательного зашумления частотных диапазонов сетей сотовой связи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71640" y="2193480"/>
            <a:ext cx="7345440" cy="3854520"/>
            <a:chOff x="971640" y="2193480"/>
            <a:chExt cx="7345440" cy="3854520"/>
          </a:xfrm>
        </p:grpSpPr>
        <p:grpSp>
          <p:nvGrpSpPr>
            <p:cNvPr id="271" name=""/>
            <p:cNvGrpSpPr/>
            <p:nvPr/>
          </p:nvGrpSpPr>
          <p:grpSpPr>
            <a:xfrm>
              <a:off x="1040040" y="2326320"/>
              <a:ext cx="6590160" cy="3721680"/>
              <a:chOff x="1040040" y="2326320"/>
              <a:chExt cx="6590160" cy="372168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1589040" y="2326320"/>
                <a:ext cx="720" cy="3455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89040" y="57816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77200" y="52498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6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77200" y="48513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6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77200" y="44524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89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77200" y="40539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96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40040" y="36550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7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40040" y="32565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78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40040" y="28576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85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40040" y="24591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9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840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24920" y="578160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11440" y="5780520"/>
                <a:ext cx="68616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9760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8412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7064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57160" y="5780520"/>
                <a:ext cx="68616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94368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89040" y="538272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89040" y="498420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89040" y="458532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89040" y="41868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89040" y="378828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89040" y="338940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89040" y="299052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89040" y="25920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275560" y="2459160"/>
                <a:ext cx="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96208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3648600" y="2459160"/>
                <a:ext cx="72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335120" y="2459160"/>
                <a:ext cx="72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502164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70816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39360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08048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1589040" y="49838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2275560" y="41864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2962080" y="3389040"/>
                <a:ext cx="68616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3648600" y="25916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335120" y="49838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5021640" y="41864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708160" y="3389040"/>
                <a:ext cx="68616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394320" y="25916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7218720" y="5782320"/>
              <a:ext cx="1098360" cy="26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, 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мсе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71640" y="2193480"/>
              <a:ext cx="1098360" cy="26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, 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мГц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547640" y="5805360"/>
            <a:ext cx="590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Полная схема электрическая принципиальная генератора зашумления сетей сотовой связи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Калькуляция себестоимости генератора зашумления сетей сотовой связи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1600200"/>
          <a:ext cx="8229600" cy="4811760"/>
        </p:xfrm>
        <a:graphic>
          <a:graphicData uri="http://schemas.openxmlformats.org/drawingml/2006/table">
            <a:tbl>
              <a:tblPr/>
              <a:tblGrid>
                <a:gridCol w="977760"/>
                <a:gridCol w="5856480"/>
                <a:gridCol w="13953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статей затр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оплату труда инженера лаборато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числения на социальные нуж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8.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прямые расх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ладные расх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1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себестоим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Способы защиты речевой информации от утечки по каналам сотовой связ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989000"/>
            <a:ext cx="230328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с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1989000"/>
            <a:ext cx="230328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9080" y="1989000"/>
            <a:ext cx="266364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689200"/>
            <a:ext cx="223200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ранирование помещ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2689200"/>
            <a:ext cx="2879640" cy="161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помещений или мест возможного расположения телеф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2703600"/>
            <a:ext cx="2303640" cy="131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рет проноса телефонов в определённые помещ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5840" y="4802040"/>
            <a:ext cx="288144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ВЧ тра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14920" y="4802040"/>
            <a:ext cx="288144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разговорного тра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4508640"/>
            <a:ext cx="36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450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450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4653000"/>
            <a:ext cx="3168720" cy="115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77080" cy="505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дная таблица использования радиочастот современными стандартами сотовой связ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3244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MA-4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53006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03280" y="1700280"/>
          <a:ext cx="6926040" cy="4178160"/>
        </p:xfrm>
        <a:graphic>
          <a:graphicData uri="http://schemas.openxmlformats.org/drawingml/2006/table">
            <a:tbl>
              <a:tblPr/>
              <a:tblGrid>
                <a:gridCol w="1731960"/>
                <a:gridCol w="1731960"/>
                <a:gridCol w="1730160"/>
                <a:gridCol w="1731960"/>
              </a:tblGrid>
              <a:tr h="63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 сотовой связ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ы диапазонов, МГ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мая полоса зашумления, МГ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T – 4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MA – 4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–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– 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- 1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395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а электрическая структурная генератора зашумления сетей сотовой связ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68360" y="1341000"/>
            <a:ext cx="8280000" cy="3600360"/>
            <a:chOff x="468360" y="1341000"/>
            <a:chExt cx="8280000" cy="3600360"/>
          </a:xfrm>
        </p:grpSpPr>
        <p:sp>
          <p:nvSpPr>
            <p:cNvPr id="155" name=""/>
            <p:cNvSpPr/>
            <p:nvPr/>
          </p:nvSpPr>
          <p:spPr>
            <a:xfrm>
              <a:off x="468360" y="1774080"/>
              <a:ext cx="1520280" cy="3167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енератор аналоговых сигнал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4720" y="3146760"/>
              <a:ext cx="67572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64720" y="4202640"/>
              <a:ext cx="67572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46600" y="4308120"/>
              <a:ext cx="72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85360" y="4202640"/>
              <a:ext cx="84456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Ф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68320" y="1774080"/>
              <a:ext cx="844560" cy="3167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ысокочастотный модуль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1280" y="1974600"/>
              <a:ext cx="1351440" cy="12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45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9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1280" y="3663720"/>
              <a:ext cx="1351440" cy="12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18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19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8640" y="4519080"/>
              <a:ext cx="6757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88640" y="3463200"/>
              <a:ext cx="67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40440" y="4519080"/>
              <a:ext cx="84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30280" y="4519080"/>
              <a:ext cx="337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0440" y="3463200"/>
              <a:ext cx="2027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13240" y="2608200"/>
              <a:ext cx="3380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13240" y="4297680"/>
              <a:ext cx="3380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8640" y="2829960"/>
              <a:ext cx="33793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8640" y="2196360"/>
              <a:ext cx="337932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3467160" y="4350240"/>
              <a:ext cx="422280" cy="338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96960" y="3875040"/>
              <a:ext cx="67572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03080" y="4297680"/>
              <a:ext cx="84456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747640" y="1341360"/>
              <a:ext cx="720" cy="295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8578800" y="1341000"/>
              <a:ext cx="16848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240760" y="1341000"/>
              <a:ext cx="720" cy="126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240760" y="1341000"/>
              <a:ext cx="16884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71200" y="1341000"/>
              <a:ext cx="16884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03080" y="2608200"/>
              <a:ext cx="337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9360" y="3030480"/>
              <a:ext cx="1013760" cy="1900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6794640" y="713880"/>
            <a:ext cx="114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8720" y="1341000"/>
            <a:ext cx="144360" cy="39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404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а электрическая принципиальная генератора аналоговых сигналов на микроконтролл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5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Осциллограммы сигналов на выходах микроконтроллера и  выходах интегрирующих цепей 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08240" y="1379520"/>
            <a:ext cx="5714640" cy="5486400"/>
            <a:chOff x="1308240" y="1379520"/>
            <a:chExt cx="5714640" cy="54864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1308240" y="1379520"/>
              <a:ext cx="244800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422360" y="3665520"/>
              <a:ext cx="205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А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4165560" y="1379520"/>
              <a:ext cx="285732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394520" y="366552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В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1308240" y="4122720"/>
              <a:ext cx="251460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536840" y="652320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С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165560" y="4122720"/>
              <a:ext cx="2857320" cy="228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394520" y="652320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Схема электрическая принципиальная двухканального операционного усилителя с нелинейным элементом.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964720" cy="2260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029200" y="3773520"/>
            <a:ext cx="41148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Схема электрическая принципиальная фильтров Чебышева и Кауэр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97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НЧ Чебыш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59500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НЧ Кауэ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5327640" cy="1257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5256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Метод расчёта фильтра сосредоточенной селекции низких частот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811080" y="1258920"/>
                <a:ext cx="2192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11080" y="1258920"/>
                <a:ext cx="304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811080" y="1258920"/>
            <a:ext cx="59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1080" y="1258920"/>
            <a:ext cx="500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1080" y="1258920"/>
            <a:ext cx="4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1080" y="1258920"/>
            <a:ext cx="45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258920"/>
            <a:ext cx="46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0920" y="1835280"/>
            <a:ext cx="864072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95280" y="1341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блица нормированных значений элементов филь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00000" y="5157720"/>
                <a:ext cx="3167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н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х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0" y="3309840"/>
                <a:ext cx="7621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932360" y="5445000"/>
            <a:ext cx="235116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Старший следователь</dc:creator>
  <dc:description/>
  <dc:language>en-US</dc:language>
  <cp:lastModifiedBy>OSCOR</cp:lastModifiedBy>
  <dcterms:modified xsi:type="dcterms:W3CDTF">2007-02-12T06:11:19Z</dcterms:modified>
  <cp:revision>24</cp:revision>
  <dc:subject/>
  <dc:title>Генератор зашумления сетей сотовой связи</dc:title>
</cp:coreProperties>
</file>