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627-6D91-4CCB-AB21-E8A647CE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EFB-3487-4DC9-B933-99B39FAD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5CD-CDC5-4455-BEE6-BC6F3F61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751-939B-4A47-9B75-20038D4F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E393-B415-453D-A405-24DFD055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912-9BA2-4059-BCA1-0A0936A2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009F-6C8F-4F31-88DC-0D689445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4DC3-9DC1-475F-A1C4-0848A199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546B-7AEB-425D-B3CC-0FB18D2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469B-5BC1-4DCD-966B-343A85D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B26-7C9A-42E9-A89C-016A6C4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0A4-5BCF-4EED-A6B4-8EED7D7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514D-5CA1-405B-B1F6-534F2AF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279-8D5A-4C4A-8181-03678B5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85A-20E1-44E0-B32B-C519259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F9E-6F2F-400D-A40F-27744FF0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74B6-DBAD-42C2-8235-19650C64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133-8745-4B1F-A6A3-55CB0F6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F92-72EF-40E2-9096-6F5F1C8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A55-D9D7-4A64-87A0-A7553B5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297-B188-4295-A5BB-6282A4E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CE9-4031-4283-BFDF-72879BD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D7D-192B-4BCC-94DE-7E45C20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88C-14AA-4160-9225-BF2E52F3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73D-8D67-4143-84C3-9A7F1A425C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838-B139-4A3D-89C9-28DF7B4C5EB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Генератор зашумления сетей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А. Островский, группа ЗТ-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877000"/>
            <a:ext cx="4751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805360"/>
            <a:ext cx="5040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734080"/>
            <a:ext cx="54007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4640"/>
            <a:ext cx="6480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33360"/>
            <a:ext cx="69850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91600" y="2043360"/>
            <a:ext cx="1662120" cy="2901240"/>
            <a:chOff x="3891600" y="2043360"/>
            <a:chExt cx="1662120" cy="2901240"/>
          </a:xfrm>
        </p:grpSpPr>
        <p:sp>
          <p:nvSpPr>
            <p:cNvPr id="107" name=""/>
            <p:cNvSpPr/>
            <p:nvPr/>
          </p:nvSpPr>
          <p:spPr>
            <a:xfrm rot="433200">
              <a:off x="4038120" y="2444760"/>
              <a:ext cx="1368360" cy="24235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423520"/>
                <a:gd name="textAreaBottom" fmla="*/ 2356920 h 2423520"/>
              </a:gdLst>
              <a:ahLst/>
              <a:rect l="textAreaLeft" t="textAreaTop" r="textAreaRight" b="textAreaBottom"/>
              <a:pathLst>
                <a:path w="21600" h="38252">
                  <a:moveTo>
                    <a:pt x="3600" y="0"/>
                  </a:moveTo>
                  <a:arcTo wR="3600" hR="3600" stAng="16200000" swAng="-5400000"/>
                  <a:lnTo>
                    <a:pt x="0" y="34652"/>
                  </a:lnTo>
                  <a:arcTo wR="3600" hR="3600" stAng="10800000" swAng="-5400000"/>
                  <a:lnTo>
                    <a:pt x="18000" y="38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433200">
              <a:off x="4249800" y="2640960"/>
              <a:ext cx="1026000" cy="85176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433200">
              <a:off x="4572720" y="3623040"/>
              <a:ext cx="274320" cy="262800"/>
            </a:xfrm>
            <a:prstGeom prst="sun">
              <a:avLst>
                <a:gd name="adj" fmla="val 25000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433200">
              <a:off x="4137120" y="3897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33200">
              <a:off x="4951800" y="4000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433200">
              <a:off x="4543560" y="3948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33200">
              <a:off x="4112640" y="40924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33200">
              <a:off x="4926960" y="419580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33200">
              <a:off x="4519080" y="4143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33200">
              <a:off x="4096080" y="4221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33200">
              <a:off x="4910760" y="4324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33200">
              <a:off x="4502520" y="4272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33200">
              <a:off x="4078080" y="435168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33200">
              <a:off x="4893120" y="445500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33200">
              <a:off x="4484880" y="44031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3200">
              <a:off x="4063320" y="44816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3200">
              <a:off x="4877640" y="4584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3200">
              <a:off x="4469760" y="453312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33200">
              <a:off x="4231080" y="364032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33200">
              <a:off x="4977000" y="373500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33200">
              <a:off x="5241960" y="2049840"/>
              <a:ext cx="136800" cy="45756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457560"/>
                <a:gd name="textAreaBottom" fmla="*/ 451080 h 457560"/>
              </a:gdLst>
              <a:ahLst/>
              <a:rect l="textAreaLeft" t="textAreaTop" r="textAreaRight" b="textAreaBottom"/>
              <a:pathLst>
                <a:path w="21600" h="72113">
                  <a:moveTo>
                    <a:pt x="3600" y="0"/>
                  </a:moveTo>
                  <a:arcTo wR="3600" hR="3600" stAng="16200000" swAng="-5400000"/>
                  <a:lnTo>
                    <a:pt x="0" y="68513"/>
                  </a:lnTo>
                  <a:arcTo wR="3600" hR="3600" stAng="10800000" swAng="-5400000"/>
                  <a:lnTo>
                    <a:pt x="18000" y="72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87640" y="1773360"/>
            <a:ext cx="3600360" cy="3671640"/>
            <a:chOff x="2987640" y="1773360"/>
            <a:chExt cx="3600360" cy="3671640"/>
          </a:xfrm>
        </p:grpSpPr>
        <p:sp>
          <p:nvSpPr>
            <p:cNvPr id="129" name=""/>
            <p:cNvSpPr/>
            <p:nvPr/>
          </p:nvSpPr>
          <p:spPr>
            <a:xfrm>
              <a:off x="2987640" y="1773360"/>
              <a:ext cx="3600360" cy="367164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92360" y="2133720"/>
              <a:ext cx="2303280" cy="27352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счёт фильтра сосредоточенной селекции полосы зашумления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1880" y="218448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31880" y="2184480"/>
            <a:ext cx="4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2184480"/>
            <a:ext cx="48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80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Алгоритм работы программы синтеза аналоговых сигналов микроконтроллером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411200"/>
            <a:ext cx="3457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тить сторожевой тайме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chDog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инициализировать порты и системы так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7082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ая пауза для стабилизации кварцевого резона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57992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лизация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ало генерации сигналов 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3787920"/>
            <a:ext cx="3457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ов подпрограммы стабилизации часто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6116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в режим пониженного энергопотребл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 PM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я синуса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02112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 значения «пилы»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4492800"/>
            <a:ext cx="3024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 из преры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40360" y="206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060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80000" y="6237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08720" y="486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256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46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43880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4461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рывание от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CCIFG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830160"/>
            <a:ext cx="143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График последовательного зашумления частотных диапазонов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71640" y="2193480"/>
            <a:ext cx="7345440" cy="3854520"/>
            <a:chOff x="971640" y="2193480"/>
            <a:chExt cx="7345440" cy="3854520"/>
          </a:xfrm>
        </p:grpSpPr>
        <p:grpSp>
          <p:nvGrpSpPr>
            <p:cNvPr id="271" name=""/>
            <p:cNvGrpSpPr/>
            <p:nvPr/>
          </p:nvGrpSpPr>
          <p:grpSpPr>
            <a:xfrm>
              <a:off x="1040040" y="2326320"/>
              <a:ext cx="6590160" cy="3721680"/>
              <a:chOff x="1040040" y="2326320"/>
              <a:chExt cx="6590160" cy="37216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589040" y="2326320"/>
                <a:ext cx="720" cy="345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89040" y="57816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77200" y="52498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77200" y="48513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77200" y="44524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9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7200" y="40539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9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40040" y="36550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0040" y="32565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8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040" y="28576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8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0040" y="24591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9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84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4920" y="578160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1144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976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412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064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5716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4368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89040" y="538272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89040" y="49842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89040" y="45853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9040" y="41868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89040" y="378828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89040" y="33894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89040" y="29905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89040" y="25920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75560" y="2459160"/>
                <a:ext cx="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9620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64860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3512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02164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816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39360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0804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58904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27556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96208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64860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512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02164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70816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39432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218720" y="578232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с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1640" y="219348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Гц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580536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лная схема электрическая принципиальная генератора зашумления сетей сотовой связ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лькуляция себестоимости генератора зашумления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811760"/>
        </p:xfrm>
        <a:graphic>
          <a:graphicData uri="http://schemas.openxmlformats.org/drawingml/2006/table">
            <a:tbl>
              <a:tblPr/>
              <a:tblGrid>
                <a:gridCol w="977760"/>
                <a:gridCol w="5856480"/>
                <a:gridCol w="1395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татей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плату труда инженера лабора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8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прям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себе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пособы защиты речевой информации от утечки по каналам 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9080" y="1989000"/>
            <a:ext cx="266364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89200"/>
            <a:ext cx="223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ранирование помещ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2689200"/>
            <a:ext cx="287964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помещений или мест возможного расположения телеф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2703600"/>
            <a:ext cx="230364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ет проноса телефонов в определённые поме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584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ВЧ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492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разговорного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50864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653000"/>
            <a:ext cx="316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77080" cy="505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ая таблица использования радиочастот современными стандартами сотовой связ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324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MA-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3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1700280"/>
          <a:ext cx="6926040" cy="417816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0160"/>
                <a:gridCol w="1731960"/>
              </a:tblGrid>
              <a:tr h="63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сотовой связ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диапазонов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ая полоса зашумления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T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MA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- 1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395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структурная генератора зашумления сетей сотовой связ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1341000"/>
            <a:ext cx="8280000" cy="3600360"/>
            <a:chOff x="468360" y="1341000"/>
            <a:chExt cx="8280000" cy="3600360"/>
          </a:xfrm>
        </p:grpSpPr>
        <p:sp>
          <p:nvSpPr>
            <p:cNvPr id="155" name=""/>
            <p:cNvSpPr/>
            <p:nvPr/>
          </p:nvSpPr>
          <p:spPr>
            <a:xfrm>
              <a:off x="468360" y="1774080"/>
              <a:ext cx="152028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енератор аналоговых сигнал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4720" y="314676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4720" y="420264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6600" y="4308120"/>
              <a:ext cx="72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5360" y="4202640"/>
              <a:ext cx="84456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8320" y="1774080"/>
              <a:ext cx="84456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окочастотный модуль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1280" y="197460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5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280" y="366372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8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8640" y="4519080"/>
              <a:ext cx="6757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8640" y="3463200"/>
              <a:ext cx="67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0440" y="4519080"/>
              <a:ext cx="84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451908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440" y="3463200"/>
              <a:ext cx="202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3240" y="260820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3240" y="429768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8640" y="2829960"/>
              <a:ext cx="3379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8640" y="2196360"/>
              <a:ext cx="33793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467160" y="4350240"/>
              <a:ext cx="422280" cy="338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96960" y="3875040"/>
              <a:ext cx="675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3080" y="4297680"/>
              <a:ext cx="844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47640" y="1341360"/>
              <a:ext cx="720" cy="295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578800" y="1341000"/>
              <a:ext cx="16848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40760" y="1341000"/>
              <a:ext cx="720" cy="126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24076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7120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3080" y="260820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360" y="3030480"/>
              <a:ext cx="1013760" cy="190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6794640" y="713880"/>
            <a:ext cx="114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8720" y="1341000"/>
            <a:ext cx="144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40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принципиальная генератора аналоговых сигналов на микроконтролл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циллограммы сигналов на выходах микроконтроллера и  выходах интегрирующих цепей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8240" y="1379520"/>
            <a:ext cx="5714640" cy="5486400"/>
            <a:chOff x="1308240" y="1379520"/>
            <a:chExt cx="5714640" cy="54864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308240" y="1379520"/>
              <a:ext cx="2448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2360" y="3665520"/>
              <a:ext cx="205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А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165560" y="1379520"/>
              <a:ext cx="28573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94520" y="366552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В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308240" y="4122720"/>
              <a:ext cx="2514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3684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С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165560" y="4122720"/>
              <a:ext cx="2857320" cy="22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452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двухканального операционного усилителя с нелинейным элементом.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226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фильтров Чебышева и Кауэр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Чебыш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Кауэ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32764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5256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Метод расчёта фильтра сосредоточенной селекции низких частот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11080" y="1258920"/>
                <a:ext cx="219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11080" y="125892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11080" y="1258920"/>
            <a:ext cx="59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1080" y="1258920"/>
            <a:ext cx="50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080" y="1258920"/>
            <a:ext cx="4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1080" y="1258920"/>
            <a:ext cx="4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258920"/>
            <a:ext cx="4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1835280"/>
            <a:ext cx="864072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нормированных значений элементов филь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5157720"/>
                <a:ext cx="3167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н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09840"/>
                <a:ext cx="7621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235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Старший следователь</dc:creator>
  <dc:description/>
  <dc:language>en-US</dc:language>
  <cp:lastModifiedBy>OSCOR</cp:lastModifiedBy>
  <dcterms:modified xsi:type="dcterms:W3CDTF">2007-02-12T06:11:19Z</dcterms:modified>
  <cp:revision>24</cp:revision>
  <dc:subject/>
  <dc:title>Генератор зашумления сетей сотовой связи</dc:title>
</cp:coreProperties>
</file>