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041-EFC6-4393-9FCA-F683A12C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90A-A90E-42A0-9319-C7CEEDE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67D-6FD7-4DC4-B817-4861F684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8C6-DBFD-4488-AC8F-BF205F57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0AF-AD7D-4CDF-8D27-7590EC10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32C1-EA93-42C0-923E-D551D836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DCB-81F9-499E-B67B-9F7F1EC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7443-FDF1-4159-A555-34C5B98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EF36-EFEC-4026-985A-145BF9B7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D1A4-575C-4230-AB6A-313D4C4C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28A-4387-450F-9F89-4232F06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CD2-47CE-41C4-8B1A-51CCA8D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2B0-70C0-4A18-AFD9-225F9F5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6663-DF07-4AC9-ABD5-2719E7B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BB12-9DC6-4553-AD85-F80BA8C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7900-7F66-42DA-B2E3-F339254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5E14-D6D3-47A0-A7E3-2E1DD21C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6B0-939A-43F4-978E-5D6A97B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AB7-4EA3-44E8-83CA-EBC5D823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6DB-CFD7-45D5-9138-941D28B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F18-C81A-4345-B7EF-7C10163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CB9-D8DA-42AE-9253-11F3E7A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643-D118-4E43-8E22-43EBF8F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D83-D0C9-4283-BDA2-DE22325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D01-3CE4-491E-B71F-ED5F1FF6620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D750-70F4-4B75-9E49-0D13AC57803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Генератор зашумления сетей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950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А. Островский, группа ЗТ-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877000"/>
            <a:ext cx="4751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805360"/>
            <a:ext cx="5040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734080"/>
            <a:ext cx="54007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4640"/>
            <a:ext cx="6480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33360"/>
            <a:ext cx="69850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91600" y="2043360"/>
            <a:ext cx="1662120" cy="2901240"/>
            <a:chOff x="3891600" y="2043360"/>
            <a:chExt cx="1662120" cy="2901240"/>
          </a:xfrm>
        </p:grpSpPr>
        <p:sp>
          <p:nvSpPr>
            <p:cNvPr id="107" name=""/>
            <p:cNvSpPr/>
            <p:nvPr/>
          </p:nvSpPr>
          <p:spPr>
            <a:xfrm rot="433200">
              <a:off x="4038120" y="2444760"/>
              <a:ext cx="1368360" cy="242352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423520"/>
                <a:gd name="textAreaBottom" fmla="*/ 2356920 h 2423520"/>
              </a:gdLst>
              <a:ahLst/>
              <a:rect l="textAreaLeft" t="textAreaTop" r="textAreaRight" b="textAreaBottom"/>
              <a:pathLst>
                <a:path w="21600" h="38252">
                  <a:moveTo>
                    <a:pt x="3600" y="0"/>
                  </a:moveTo>
                  <a:arcTo wR="3600" hR="3600" stAng="16200000" swAng="-5400000"/>
                  <a:lnTo>
                    <a:pt x="0" y="34652"/>
                  </a:lnTo>
                  <a:arcTo wR="3600" hR="3600" stAng="10800000" swAng="-5400000"/>
                  <a:lnTo>
                    <a:pt x="18000" y="38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433200">
              <a:off x="4249800" y="2640960"/>
              <a:ext cx="1026000" cy="85176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433200">
              <a:off x="4572720" y="3623040"/>
              <a:ext cx="274320" cy="262800"/>
            </a:xfrm>
            <a:prstGeom prst="sun">
              <a:avLst>
                <a:gd name="adj" fmla="val 25000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433200">
              <a:off x="4137120" y="3897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33200">
              <a:off x="4951800" y="4000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433200">
              <a:off x="4543560" y="3948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433200">
              <a:off x="4112640" y="40924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33200">
              <a:off x="4926960" y="419580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33200">
              <a:off x="4519080" y="4143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33200">
              <a:off x="4096080" y="42213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433200">
              <a:off x="4910760" y="432468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433200">
              <a:off x="4502520" y="42728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33200">
              <a:off x="4078080" y="435168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33200">
              <a:off x="4893120" y="4455000"/>
              <a:ext cx="27396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33200">
              <a:off x="4484880" y="44031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433200">
              <a:off x="4063320" y="448164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33200">
              <a:off x="4877640" y="458496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3200">
              <a:off x="4469760" y="4533120"/>
              <a:ext cx="274320" cy="64800"/>
            </a:xfrm>
            <a:prstGeom prst="roundRect">
              <a:avLst>
                <a:gd name="adj" fmla="val 1666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33200">
              <a:off x="4231080" y="364032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33200">
              <a:off x="4977000" y="3735000"/>
              <a:ext cx="204840" cy="196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101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433200">
              <a:off x="5241960" y="2049840"/>
              <a:ext cx="136800" cy="457560"/>
            </a:xfrm>
            <a:custGeom>
              <a:avLst/>
              <a:gdLst>
                <a:gd name="textAreaLeft" fmla="*/ 6480 w 136800"/>
                <a:gd name="textAreaRight" fmla="*/ 130320 w 136800"/>
                <a:gd name="textAreaTop" fmla="*/ 6480 h 457560"/>
                <a:gd name="textAreaBottom" fmla="*/ 451080 h 457560"/>
              </a:gdLst>
              <a:ahLst/>
              <a:rect l="textAreaLeft" t="textAreaTop" r="textAreaRight" b="textAreaBottom"/>
              <a:pathLst>
                <a:path w="21600" h="72113">
                  <a:moveTo>
                    <a:pt x="3600" y="0"/>
                  </a:moveTo>
                  <a:arcTo wR="3600" hR="3600" stAng="16200000" swAng="-5400000"/>
                  <a:lnTo>
                    <a:pt x="0" y="68513"/>
                  </a:lnTo>
                  <a:arcTo wR="3600" hR="3600" stAng="10800000" swAng="-5400000"/>
                  <a:lnTo>
                    <a:pt x="18000" y="721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87640" y="1773360"/>
            <a:ext cx="3600360" cy="3671640"/>
            <a:chOff x="2987640" y="1773360"/>
            <a:chExt cx="3600360" cy="3671640"/>
          </a:xfrm>
        </p:grpSpPr>
        <p:sp>
          <p:nvSpPr>
            <p:cNvPr id="129" name=""/>
            <p:cNvSpPr/>
            <p:nvPr/>
          </p:nvSpPr>
          <p:spPr>
            <a:xfrm>
              <a:off x="2987640" y="1773360"/>
              <a:ext cx="3600360" cy="367164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92360" y="2133720"/>
              <a:ext cx="2303280" cy="273528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счёт фильтра сосредоточенной селекции полосы зашумления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1880" y="218448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31880" y="218448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31880" y="2184480"/>
            <a:ext cx="4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2184480"/>
            <a:ext cx="64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2184480"/>
            <a:ext cx="48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880" y="2184480"/>
            <a:ext cx="55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930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277920"/>
            <a:ext cx="80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Алгоритм работы программы синтеза аналоговых сигналов микроконтроллером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411200"/>
            <a:ext cx="3457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тить сторожевой тайме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chDog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инициализировать порты и системы так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7082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ая пауза для стабилизации кварцевого резона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457992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лизация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ало генерации сигналов 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3787920"/>
            <a:ext cx="3457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ов подпрограммы стабилизации часто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611680"/>
            <a:ext cx="34574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ход в режим пониженного энергопотребл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 PM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я синуса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021120"/>
            <a:ext cx="302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ремент и логическое «И» указателя на таблицу значения «пилы» и запись нового значени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4492800"/>
            <a:ext cx="3024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 из преры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40360" y="206028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060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780000" y="6237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08720" y="486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2565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46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438800"/>
            <a:ext cx="0" cy="14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6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0872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4461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рывание от тайме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B CCIFG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830160"/>
            <a:ext cx="143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График последовательного зашумления частотных диапазонов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71640" y="2193480"/>
            <a:ext cx="7345440" cy="3854520"/>
            <a:chOff x="971640" y="2193480"/>
            <a:chExt cx="7345440" cy="3854520"/>
          </a:xfrm>
        </p:grpSpPr>
        <p:grpSp>
          <p:nvGrpSpPr>
            <p:cNvPr id="271" name=""/>
            <p:cNvGrpSpPr/>
            <p:nvPr/>
          </p:nvGrpSpPr>
          <p:grpSpPr>
            <a:xfrm>
              <a:off x="1040040" y="2326320"/>
              <a:ext cx="6590160" cy="3721680"/>
              <a:chOff x="1040040" y="2326320"/>
              <a:chExt cx="6590160" cy="37216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589040" y="2326320"/>
                <a:ext cx="720" cy="345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89040" y="57816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77200" y="52498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77200" y="48513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6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77200" y="44524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9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77200" y="40539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9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40040" y="36550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0040" y="32565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78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040" y="285768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8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0040" y="245916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9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84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24920" y="578160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1144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9760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412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064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57160" y="5780520"/>
                <a:ext cx="68616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43680" y="5780520"/>
                <a:ext cx="686520" cy="26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89040" y="538272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89040" y="49842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89040" y="45853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9040" y="41868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89040" y="378828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89040" y="338940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89040" y="2990520"/>
                <a:ext cx="590364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89040" y="2592000"/>
                <a:ext cx="59036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75560" y="2459160"/>
                <a:ext cx="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9620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64860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35120" y="2459160"/>
                <a:ext cx="72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02164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816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39360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080480" y="2459160"/>
                <a:ext cx="360" cy="332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58904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27556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96208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64860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5120" y="49838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021640" y="41864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708160" y="3389040"/>
                <a:ext cx="68616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394320" y="2591640"/>
                <a:ext cx="686520" cy="398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218720" y="578232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с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1640" y="2193480"/>
              <a:ext cx="1098360" cy="26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, </a:t>
              </a: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мГц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580536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лная схема электрическая принципиальная генератора зашумления сетей сотовой связи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лькуляция себестоимости генератора зашумления сетей сотовой связи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811760"/>
        </p:xfrm>
        <a:graphic>
          <a:graphicData uri="http://schemas.openxmlformats.org/drawingml/2006/table">
            <a:tbl>
              <a:tblPr/>
              <a:tblGrid>
                <a:gridCol w="977760"/>
                <a:gridCol w="5856480"/>
                <a:gridCol w="1395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татей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оплату труда инженера лабора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исления на социальные нуж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8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прям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68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себестоим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Способы защиты речевой информации от утечки по каналам сотовой связ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989000"/>
            <a:ext cx="2303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9080" y="1989000"/>
            <a:ext cx="266364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89200"/>
            <a:ext cx="223200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ранирование помещ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2689200"/>
            <a:ext cx="287964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помещений или мест возможного расположения телефо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2703600"/>
            <a:ext cx="230364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ет проноса телефонов в определённые поме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584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ВЧ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4920" y="4802040"/>
            <a:ext cx="288144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шумление разговорного тра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450864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450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653000"/>
            <a:ext cx="316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77080" cy="505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дная таблица использования радиочастот современными стандартами сотовой связ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32440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MA-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53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1700280"/>
          <a:ext cx="6926040" cy="417816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0160"/>
                <a:gridCol w="1731960"/>
              </a:tblGrid>
              <a:tr h="63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сотовой связ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диапазонов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ая полоса зашумления, МГ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T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MA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– 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SM - 1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395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структурная генератора зашумления сетей сотовой связ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8360" y="1341000"/>
            <a:ext cx="8280000" cy="3600360"/>
            <a:chOff x="468360" y="1341000"/>
            <a:chExt cx="8280000" cy="3600360"/>
          </a:xfrm>
        </p:grpSpPr>
        <p:sp>
          <p:nvSpPr>
            <p:cNvPr id="155" name=""/>
            <p:cNvSpPr/>
            <p:nvPr/>
          </p:nvSpPr>
          <p:spPr>
            <a:xfrm>
              <a:off x="468360" y="1774080"/>
              <a:ext cx="152028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енератор аналоговых сигнал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4720" y="314676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4720" y="4202640"/>
              <a:ext cx="67572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6600" y="4308120"/>
              <a:ext cx="72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5360" y="4202640"/>
              <a:ext cx="844560" cy="63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8320" y="1774080"/>
              <a:ext cx="844560" cy="316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окочастотный модуль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1280" y="197460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5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1280" y="3663720"/>
              <a:ext cx="1351440" cy="12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8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1900МГ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8640" y="4519080"/>
              <a:ext cx="6757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8640" y="3463200"/>
              <a:ext cx="67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0440" y="4519080"/>
              <a:ext cx="84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0280" y="451908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440" y="3463200"/>
              <a:ext cx="202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3240" y="260820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3240" y="4297680"/>
              <a:ext cx="33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8640" y="2829960"/>
              <a:ext cx="3379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8640" y="2196360"/>
              <a:ext cx="33793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467160" y="4350240"/>
              <a:ext cx="422280" cy="338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96960" y="3875040"/>
              <a:ext cx="675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3080" y="4297680"/>
              <a:ext cx="844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47640" y="1341360"/>
              <a:ext cx="720" cy="295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578800" y="1341000"/>
              <a:ext cx="16848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40760" y="1341000"/>
              <a:ext cx="720" cy="126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24076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71200" y="1341000"/>
              <a:ext cx="168840" cy="42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3080" y="2608200"/>
              <a:ext cx="33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9360" y="3030480"/>
              <a:ext cx="1013760" cy="190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6794640" y="713880"/>
            <a:ext cx="114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8720" y="1341000"/>
            <a:ext cx="144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404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электрическая принципиальная генератора аналоговых сигналов на микроконтролл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циллограммы сигналов на выходах микроконтроллера и  выходах интегрирующих цепей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08240" y="1379520"/>
            <a:ext cx="5714640" cy="5486400"/>
            <a:chOff x="1308240" y="1379520"/>
            <a:chExt cx="5714640" cy="54864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308240" y="1379520"/>
              <a:ext cx="244800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2360" y="3665520"/>
              <a:ext cx="205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А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165560" y="1379520"/>
              <a:ext cx="28573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94520" y="366552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В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308240" y="4122720"/>
              <a:ext cx="25146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3684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С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165560" y="4122720"/>
              <a:ext cx="2857320" cy="22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4520" y="6523200"/>
              <a:ext cx="2057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нтрольная точка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двухканального операционного усилителя с нелинейным элементом.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964720" cy="2260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Схема электрическая принципиальная фильтров Чебышева и Кауэр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Чебыш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НЧ Кауэ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32764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5256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Метод расчёта фильтра сосредоточенной селекции низких частот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11080" y="1258920"/>
                <a:ext cx="2192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11080" y="1258920"/>
                <a:ext cx="304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11080" y="1258920"/>
                <a:ext cx="333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11080" y="1258920"/>
            <a:ext cx="59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1080" y="1258920"/>
            <a:ext cx="50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080" y="1258920"/>
            <a:ext cx="47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1080" y="1258920"/>
            <a:ext cx="4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1080" y="12589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258920"/>
            <a:ext cx="46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1835280"/>
            <a:ext cx="864072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528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нормированных значений элементов филь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5157720"/>
                <a:ext cx="3167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н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0" y="3309840"/>
                <a:ext cx="7621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932360" y="5445000"/>
            <a:ext cx="235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Старший следователь</dc:creator>
  <dc:description/>
  <dc:language>en-US</dc:language>
  <cp:lastModifiedBy>OSCOR</cp:lastModifiedBy>
  <dcterms:modified xsi:type="dcterms:W3CDTF">2007-02-12T06:11:19Z</dcterms:modified>
  <cp:revision>24</cp:revision>
  <dc:subject/>
  <dc:title>Генератор зашумления сетей сотовой связи</dc:title>
</cp:coreProperties>
</file>