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1A9-68E7-455C-B59C-EEB9CA79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90E-73C2-40AE-ABD0-A3163E82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B8E-3632-44FF-BB45-4B868713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E84-529D-4071-976B-6F87E523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466-7319-4F04-9666-A57D4477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387-6326-46B3-BF8D-57C37485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BC6-2F97-4D5A-ABEB-8AE911B2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51A-23B2-4F71-9FFE-30F40755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ECD-669A-4E13-987D-49DB1176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EF5-F008-4908-82A2-7E200AC6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6FC-3C66-4D14-9E7F-66270720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C2A-26D9-49BA-87C2-709B54E9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FFDA-D28B-4F38-93E2-E5019FA0C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011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Тема дипломной работы: «Исследование характеристик направленности зеркальных антен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360" y="458064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Руководитель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4000" y="529992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Дипломник:  студент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0" t="0" r="0" b="28658"/>
          <a:stretch/>
        </p:blipFill>
        <p:spPr>
          <a:xfrm>
            <a:off x="1187280" y="260280"/>
            <a:ext cx="68630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Облучатель, находящийся на пути распространения отраженной от зеркала волны, поглощает часть энергии этой волны, что приводит к теневому эффекту облучателя и его рассогласованию с фидерной линие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Для ослабления рассогласования облучателя с фидерной линией существует несколько способ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Один из них заключается в установке на расстоянии </a:t>
            </a:r>
            <a:r>
              <a:rPr b="0" i="1" lang="en-US" sz="4400" spc="-1" strike="noStrike">
                <a:solidFill>
                  <a:srgbClr val="6699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669900"/>
                </a:solidFill>
                <a:latin typeface="Arial"/>
              </a:rPr>
              <a:t> от вершины параболического рефлектора плоского компенсирующего д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897680" cy="4403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64720" y="496800"/>
            <a:ext cx="602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Параболическое зерк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с компенсирующим диском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Другой способ основан</a:t>
            </a: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на повороте плоскости поляризации отраженной от зеркала волны за счет использования параболического рефлектора с параллельными пластин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821360" cy="3579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4828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Параболическое зеркало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четвертьволновыми пластин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9640" y="113616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Arial"/>
              </a:rPr>
              <a:t>Устранить влияние отраженной волны можно также, применяя усеченное зеркало и располагая облучатель вне зоны действия отраженной вол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526520" cy="455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6000" y="6325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Усеченное параболическое зерк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9900"/>
                </a:solidFill>
                <a:latin typeface="Arial"/>
              </a:rPr>
              <a:t>Зеркальными антеннами называют антенны, у которых поле в раскрыве формируется в результате отражения электромагнитной волны от металлической поверхности специального рефлектора (зеркала).</a:t>
            </a:r>
            <a:r>
              <a:rPr b="0" lang="ru-RU" sz="32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99cc00"/>
                </a:solidFill>
                <a:latin typeface="Arial"/>
              </a:rPr>
              <a:t>Схема параболической антен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69850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Лабораторный практикум будет проходить на специальной установке. Структурную схему этой установки разобьем на две части – передающую и приемн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Передачу сигнала будет производить пирамидальная рупорная антен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Прием произведем зеркальной антенной чьи характеристики и нужно будет опреде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3640" y="1413000"/>
            <a:ext cx="5248440" cy="952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8324640" cy="1050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02040" y="5645880"/>
            <a:ext cx="530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Структурная схема приемной части установ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2940840"/>
            <a:ext cx="65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Структурная схема передающей части установ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cc00"/>
                </a:solidFill>
                <a:latin typeface="Times New Roman"/>
              </a:rPr>
              <a:t>ДН облучателя и зеркальной антен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76760" y="41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9" descr=""/>
          <p:cNvPicPr/>
          <p:nvPr/>
        </p:nvPicPr>
        <p:blipFill>
          <a:blip r:embed="rId2"/>
          <a:srcRect l="4376" t="17315" r="10937" b="20016"/>
          <a:stretch/>
        </p:blipFill>
        <p:spPr>
          <a:xfrm>
            <a:off x="1187280" y="2060640"/>
            <a:ext cx="6743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8218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9900"/>
                </a:solidFill>
                <a:latin typeface="Arial"/>
              </a:rPr>
              <a:t>Облучатель представляют собой диэлектрический стержень, выполненный из высокочастотного диэлектрика с малыми потерями (полистирол)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9900"/>
                </a:solidFill>
                <a:latin typeface="Arial"/>
              </a:rPr>
              <a:t>Ширина ДН по уровню половинной мощности одиночной диэлектрической антенны составляет обычно не менее 20...25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0" b="32857"/>
          <a:stretch/>
        </p:blipFill>
        <p:spPr>
          <a:xfrm>
            <a:off x="611280" y="981000"/>
            <a:ext cx="81360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Зеркальные антенны отличаются конструктивной простотой, возможностью получения различных ДН, хорошими диапазонными свойствами и т.д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Arial"/>
              </a:rPr>
              <a:t>Параболическая антенна используется для создания остронаправленного излучения в диапазоне СВЧ, когда размеры антенны во много раз превышают рабочую длину волн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2:37:04Z</dcterms:created>
  <dc:creator>Admin</dc:creator>
  <dc:description/>
  <dc:language>en-US</dc:language>
  <cp:lastModifiedBy>Admin</cp:lastModifiedBy>
  <dcterms:modified xsi:type="dcterms:W3CDTF">2008-06-29T09:05:16Z</dcterms:modified>
  <cp:revision>16</cp:revision>
  <dc:subject/>
  <dc:title>Зеркальная антенна</dc:title>
</cp:coreProperties>
</file>