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46D-B8A1-463E-B249-4303ABC2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99C-E51D-48E4-886F-8C937DCF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691E-0BF2-489A-8FAA-BAD3AC14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A0E-CA26-411A-A8EC-82BEFCEB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C69-AC11-4582-99E0-08BE920D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675-D725-46DA-A599-37D0C4D9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1BA-22D0-4F54-A17B-74BDF23A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513-BD10-4E85-9356-E215526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9C9-4485-4CB9-A8CE-B03056B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5D9-EEEF-409A-A340-2E4D48B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50A-99C7-4313-A7E6-C2F00E7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3FE-3F82-4A5D-8B1D-7C93EBD0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9A9C-331E-4D77-A3C7-E761F7E5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011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Тема дипломной работы: «Исследование характеристик направленности зеркальных антен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360" y="458064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Руководитель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4000" y="529992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Дипломник:  студент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0" t="0" r="0" b="28658"/>
          <a:stretch/>
        </p:blipFill>
        <p:spPr>
          <a:xfrm>
            <a:off x="1187280" y="260280"/>
            <a:ext cx="68630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Облучатель, находящийся на пути распространения отраженной от зеркала волны, поглощает часть энергии этой волны, что приводит к теневому эффекту облучателя и его рассогласованию с фидерной лини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Для ослабления рассогласования облучателя с фидерной линией существует несколько способ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Один из них заключается в установке на расстоянии </a:t>
            </a:r>
            <a:r>
              <a:rPr b="0" i="1" lang="en-US" sz="4400" spc="-1" strike="noStrike">
                <a:solidFill>
                  <a:srgbClr val="6699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 от вершины параболического рефлектора плоского компенсирующего д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897680" cy="440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64720" y="496800"/>
            <a:ext cx="60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Параболическое зерк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с компенсирующим диском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Другой способ основан</a:t>
            </a: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на повороте плоскости поляризации отраженной от зеркала волны за счет использования параболического рефлектора с параллельными пластин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821360" cy="3579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482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Параболическое зеркало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четвертьволновыми пласти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640" y="113616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Устранить влияние отраженной волны можно также, применяя усеченное зеркало и располагая облучатель вне зоны действия отраженной вол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526520" cy="455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6325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Усеченное параболическое зерк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Зеркальными антеннами называют антенны, у которых поле в раскрыве формируется в результате отражения электромагнитной волны от металлической поверхности специального рефлектора (зеркала).</a:t>
            </a:r>
            <a:r>
              <a:rPr b="0" lang="ru-RU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cc00"/>
                </a:solidFill>
                <a:latin typeface="Arial"/>
              </a:rPr>
              <a:t>Схема параболической антен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69850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Лабораторный практикум будет проходить на специальной установке. Структурную схему этой установки разобьем на две части – передающую и приемн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Передачу сигнала будет производить пирамидальная рупорная антен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Прием произведем зеркальной антенной чьи характеристики и нужно будет опреде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5248440" cy="95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8324640" cy="105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02040" y="5645880"/>
            <a:ext cx="53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Структурная схема приемной части установ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2940840"/>
            <a:ext cx="65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Структурная схема передающей части установ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cc00"/>
                </a:solidFill>
                <a:latin typeface="Times New Roman"/>
              </a:rPr>
              <a:t>ДН облучателя и зеркальной антен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76760" y="41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9" descr=""/>
          <p:cNvPicPr/>
          <p:nvPr/>
        </p:nvPicPr>
        <p:blipFill>
          <a:blip r:embed="rId2"/>
          <a:srcRect l="4376" t="17315" r="10937" b="20016"/>
          <a:stretch/>
        </p:blipFill>
        <p:spPr>
          <a:xfrm>
            <a:off x="1187280" y="2060640"/>
            <a:ext cx="6743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218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9900"/>
                </a:solidFill>
                <a:latin typeface="Arial"/>
              </a:rPr>
              <a:t>Облучатель представляют собой диэлектрический стержень, выполненный из высокочастотного диэлектрика с малыми потерями (полистирол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9900"/>
                </a:solidFill>
                <a:latin typeface="Arial"/>
              </a:rPr>
              <a:t>Ширина ДН по уровню половинной мощности одиночной диэлектрической антенны составляет обычно не менее 20...25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0" b="32857"/>
          <a:stretch/>
        </p:blipFill>
        <p:spPr>
          <a:xfrm>
            <a:off x="611280" y="981000"/>
            <a:ext cx="81360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Зеркальные антенны отличаются конструктивной простотой, возможностью получения различных ДН, хорошими диапазонными свойствами и т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Параболическая антенна используется для создания остронаправленного излучения в диапазоне СВЧ, когда размеры антенны во много раз превышают рабочую длину волн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2:37:04Z</dcterms:created>
  <dc:creator>Admin</dc:creator>
  <dc:description/>
  <dc:language>en-US</dc:language>
  <cp:lastModifiedBy>Admin</cp:lastModifiedBy>
  <dcterms:modified xsi:type="dcterms:W3CDTF">2008-06-29T09:05:16Z</dcterms:modified>
  <cp:revision>16</cp:revision>
  <dc:subject/>
  <dc:title>Зеркальная антенна</dc:title>
</cp:coreProperties>
</file>